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7432000" cy="3657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95760"/>
                <a:tab algn="l" pos="91915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95760"/>
                <a:tab algn="l" pos="9191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95760"/>
                <a:tab algn="l" pos="91915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95760"/>
                <a:tab algn="l" pos="9191520"/>
              </a:tabLst>
            </a:pPr>
            <a:fld id="{C0EEFD7D-0E89-4804-884C-5FC5DDFE5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95760"/>
                <a:tab algn="l" pos="9191520"/>
              </a:tabLst>
            </a:pPr>
            <a:fld id="{D48487B0-7F90-4F4A-BEFD-7C9A19A9D8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2854-F3F9-4139-8C5E-8ED89F60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8534160"/>
            <a:ext cx="2468880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21141720"/>
            <a:ext cx="2468880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5C49-53DC-464C-86B8-6A49F261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853416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22360" y="853416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2114172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022360" y="2114172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364-B908-4CE5-BB0E-93273AFB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8534160"/>
            <a:ext cx="79495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8920" y="8534160"/>
            <a:ext cx="79495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066240" y="8534160"/>
            <a:ext cx="79495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21141720"/>
            <a:ext cx="79495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718920" y="21141720"/>
            <a:ext cx="79495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066240" y="21141720"/>
            <a:ext cx="79495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9D3-DF95-48B9-8125-D34A5477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8534160"/>
            <a:ext cx="24688800" cy="241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A73-363E-4E36-90AB-81F67DCF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8534160"/>
            <a:ext cx="24688800" cy="24137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CD6-62C3-417F-8429-4A7F6D81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8534160"/>
            <a:ext cx="12048120" cy="24137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022360" y="8534160"/>
            <a:ext cx="12048120" cy="24137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01B-A477-4194-985D-F1819E68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086-AB33-414F-83C7-3186AC02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463400"/>
            <a:ext cx="24688800" cy="282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5BE-6968-4878-B850-8DADA25D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853416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022360" y="8534160"/>
            <a:ext cx="12048120" cy="24137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2114172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01B-1822-423B-9173-22D27438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8534160"/>
            <a:ext cx="12048120" cy="24137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022360" y="853416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22360" y="2114172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BA5-EF49-4F3A-B52E-FB3B78AF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853416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022360" y="8534160"/>
            <a:ext cx="1204812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21141720"/>
            <a:ext cx="24688800" cy="11513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4360"/>
                <a:tab algn="l" pos="7308720"/>
                <a:tab algn="l" pos="10963440"/>
              </a:tabLst>
            </a:pP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62E-629E-41BC-8CAA-2195974C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463400"/>
            <a:ext cx="246888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8534160"/>
            <a:ext cx="24688800" cy="24137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727200" indent="-7272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1" marL="1308240" indent="52056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2" marL="4568760" indent="-912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3" marL="6397560" indent="-9126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4" marL="8226360" indent="-9126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5" marL="8226360" indent="-9126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  <a:p>
            <a:pPr lvl="6" marL="8226360" indent="-9126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600" y="33899040"/>
            <a:ext cx="6400800" cy="194796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lstStyle>
            <a:lvl1pPr indent="0">
              <a:buNone/>
              <a:tabLst>
                <a:tab algn="l" pos="0"/>
                <a:tab algn="l" pos="3656160"/>
                <a:tab algn="l" pos="7311960"/>
                <a:tab algn="l" pos="10968120"/>
              </a:tabLst>
              <a:defRPr b="0" lang="en-US" sz="4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r>
              <a:rPr b="0" lang="en-US" sz="4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72600" y="33899040"/>
            <a:ext cx="8686800" cy="194796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>
              <a:buNone/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59600" y="33899040"/>
            <a:ext cx="6400800" cy="194796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lstStyle>
            <a:lvl1pPr indent="0" algn="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  <a:defRPr b="0" lang="en-US" sz="4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656160"/>
                <a:tab algn="l" pos="7311960"/>
                <a:tab algn="l" pos="10968120"/>
              </a:tabLst>
            </a:pPr>
            <a:fld id="{AE73DB41-BBDD-444D-B7A0-D5EAB053D7E0}" type="slidenum">
              <a:rPr b="0" lang="en-US" sz="4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8840" y="507960"/>
            <a:ext cx="26914320" cy="36352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45840"/>
                <a:tab algn="l" pos="1250964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Verdana"/>
                <a:ea typeface="Verdana"/>
              </a:rPr>
              <a:t>DETERMINATION OF PREGNANCY EPISODES AND OUTCOMES WITHIN A DISTRIBUTED NETWORK OF OBSERVATIONAL DATABASES</a:t>
            </a:r>
            <a:br>
              <a:rPr sz="4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Verdana"/>
              </a:rPr>
              <a:t>Amy Matcho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Verdana"/>
              </a:rPr>
              <a:t>, Patrick B. Ryan, PhD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Verdana"/>
              </a:rPr>
              <a:t>, Daniel Fife, MD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Verdana"/>
              </a:rPr>
              <a:t>, Dina Gifkins, PhD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Verdana"/>
              </a:rPr>
              <a:t>, Chris Knoll, Andrew Friedman , MD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br>
              <a:rPr sz="3800"/>
            </a:b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Verdana"/>
              </a:rPr>
              <a:t>Janssen Research &amp; Development, LLC, Raritan, NJ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000" y="4143240"/>
            <a:ext cx="10791720" cy="2976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365760" rIns="365760" tIns="182880" bIns="182880"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Verdana"/>
                <a:ea typeface="Verdana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laims databases and electronic health records (EHR) are valuable resources for evaluating prescription drug effects during pregn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irect measures of gestational age are generally not available and an algorithm must be developed and validated  to identify entire pregnancy episo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tudy objectives includ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y pregnancy episodes including pregnancy start and outcome on a network of population-based databases using the OMOP CD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termine pregnancy outcomes including live births, stillbirths, abortions and ectopic pregna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xamine all possible episode start markers in our data sources and develop a hierarchy for usage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Verdana"/>
                <a:ea typeface="Verdana"/>
              </a:rPr>
              <a:t>CONFLICT OF INTEREST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All authors are full time employees of Janssen Research and Development, a unit of Johnson and Johnson. The work on this study was part of their employment. They also hold pension rights from the company and own stock and stock op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Verdana"/>
                <a:ea typeface="Verdana"/>
              </a:rPr>
              <a:t>METH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n algorithm to define pregnancy episodes was developed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ruven MarketScan Commercial Claims and Encounters (Truven CCA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ruven MarketScan Multi-state Medicaid (Truven MDCD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Optum ClinFormatics (Opt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linical Practice Research Datalink (CPR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Our pregnancy episodes by definition begin with estimated last menstrual period date and end with pregnancy outcome dat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ll valid pregnancy outcomes for a patient were identifi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Outcome categories assessed in order of: live birth, stillbirth, ectopic pregnancy, induced abortion, spontaneous abortion and delivery record on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tarting with live births, each outcome found for a patient was assessed against all previously determined valid outcomes for occurrence within clinically plausible time window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Outcome invalid if antenatal GP visit or pregnancy confirmation occurred within 42 days (except live births)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ctopic pregnancy outcome required to have procedure or methotrex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livery only and live birth were combined into ‘Live birth’  and spontaneous and induced abortion were combined into ‘Abortion’  outcomes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regnancy starts estimated using hierarchy of pregnancy markers in this order: last menstrual period, gestational age, fertility procedures, ultrasounds (U/S) of nuchal fold thickness (nuchal ultrasound), alpha-fetoprotein tests, amenorrhea diagnoses, urine pregnancy tests and average gestational age estim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Hierarchy primarily determined from calculated proximity of category start estimation to fertility procedure starts (which accurately date conception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Only start markers for an episode within minimum and maximum terms per outcome were inclu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djustment performed for conflicts with prior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irst start marker found in hierarchy for an episode used to estimate st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alidation included manual review of 700 electronic pregnancy episode patient profiles and completion of a survey with 6 questions that assessed operating characteristics of the algorithm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 2nd validation was performed comparing proximity of algorithm final start estimation to fertility procedures start estim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 flipV="1">
            <a:off x="0" y="36075240"/>
            <a:ext cx="27432000" cy="500040"/>
          </a:xfrm>
          <a:prstGeom prst="rect">
            <a:avLst/>
          </a:prstGeom>
          <a:gradFill rotWithShape="0">
            <a:gsLst>
              <a:gs pos="0">
                <a:srgbClr val="003478"/>
              </a:gs>
              <a:gs pos="100000">
                <a:srgbClr val="3c8a2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880" rIns="38880" tIns="38880" bIns="38880" anchor="t">
            <a:normAutofit/>
          </a:bodyPr>
          <a:p>
            <a:pPr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11426760" y="4143240"/>
            <a:ext cx="73440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marL="731880"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Verdana"/>
                <a:ea typeface="Aria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7" descr="OHDSI"/>
          <p:cNvPicPr/>
          <p:nvPr/>
        </p:nvPicPr>
        <p:blipFill>
          <a:blip r:embed="rId1"/>
          <a:stretch/>
        </p:blipFill>
        <p:spPr>
          <a:xfrm>
            <a:off x="12762000" y="33847200"/>
            <a:ext cx="5219640" cy="1110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C:\Users\AMatcho\Desktop\Janssen_Prof_RGB.jpg"/>
          <p:cNvPicPr/>
          <p:nvPr/>
        </p:nvPicPr>
        <p:blipFill>
          <a:blip r:embed="rId2"/>
          <a:stretch/>
        </p:blipFill>
        <p:spPr>
          <a:xfrm>
            <a:off x="19099080" y="33451920"/>
            <a:ext cx="3106800" cy="1957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12241080" y="4832280"/>
            <a:ext cx="13716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igure 1: In CPRD, ~50% of live birth episodes used last menstrual period record for start estimation.  Majority of start estimations for Optum episodes were performed using alpha fetoprotein and nuchal ultrasound te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21" descr="S:\Epi\Pregnancy_Definition_EARS_Report_2013.03.11\Pregnancy_episode_paper\tables\OHDSI_poster_fig2.png"/>
          <p:cNvPicPr/>
          <p:nvPr/>
        </p:nvPicPr>
        <p:blipFill>
          <a:blip r:embed="rId3"/>
          <a:stretch/>
        </p:blipFill>
        <p:spPr>
          <a:xfrm>
            <a:off x="12266640" y="15306840"/>
            <a:ext cx="14906520" cy="6825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2" descr="S:\Epi\Pregnancy_Definition_EARS_Report_2013.03.11\Pregnancy_episode_paper\tables\OHDSI_poster_fig1.png"/>
          <p:cNvPicPr/>
          <p:nvPr/>
        </p:nvPicPr>
        <p:blipFill>
          <a:blip r:embed="rId4"/>
          <a:stretch/>
        </p:blipFill>
        <p:spPr>
          <a:xfrm>
            <a:off x="12241080" y="6334200"/>
            <a:ext cx="14932080" cy="66196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12293640" y="13657320"/>
            <a:ext cx="13716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Figure 2: Pregnancy episode length distributions generally aligned as expected, however a higher proportion of episodes 290-299 days long occurred when amenorrhea and urine pregnancy test markers were used to estimate star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12241080" y="22504320"/>
            <a:ext cx="1371600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Electronic pregnancy episode profile validation: survey results indicated all operating characteristics of the algorithm agreed at least 90% of the time with reviewer chosen characteristic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2nd validation sensitivity results were as follows: 73.3% of algorithm estimated starts for live births were within 2 weeks proximity of fertility procedure estimated starts; ectopic pregnancy 76.5%; stillbirth 46.5% and abortion 36.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8"/>
          <p:cNvSpPr/>
          <p:nvPr/>
        </p:nvSpPr>
        <p:spPr>
          <a:xfrm flipH="1">
            <a:off x="12218400" y="29984760"/>
            <a:ext cx="13737960" cy="48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Verdana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n algorithm that identifies pregnancy episodes and outcomes was successfully developed on a network of distributed databases with acceptable accuracy concerning all operating characteristics.  It can be used to examine drug effects during pregnancy for all outcome types. Mother-child linkages can be developed in the future to examine associations between exposures and congenital disor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cknowledgements: We are grateful for pregnancy episode electronic profile review provided by Yiting Wang, Helen  Pai and Jamie Pri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8"/>
          <p:cNvSpPr/>
          <p:nvPr/>
        </p:nvSpPr>
        <p:spPr>
          <a:xfrm flipH="1">
            <a:off x="12292920" y="25233480"/>
            <a:ext cx="1372068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4360"/>
                <a:tab algn="l" pos="7308720"/>
                <a:tab algn="l" pos="1096344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Verdana"/>
                <a:ea typeface="Verdana"/>
              </a:rPr>
              <a:t>LIMI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regnancy episode information generated by the algorithm was provided within the electronic pregnancy episode profiles. In the absence of conflicting data a reviewer may have tended to agree with the algorithm even if a shorter or longer pregnancy term would have been a more reasonable estimation for that episod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 assisted fertility population may differ from the general population in characteristics such as pregnancy term and care-seeking behavior which may have affected start marker hierarchy determination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valid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4360"/>
                <a:tab algn="l" pos="7308720"/>
                <a:tab algn="l" pos="1096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are was taken to avoid defining rule-out diagnoses and repeat billings as separate pregnancy episodes in the algorithm but challenging data presentations may have been handled incorrectly by the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54360"/>
                <a:tab algn="l" pos="7308720"/>
                <a:tab algn="l" pos="109634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12:51:59Z</dcterms:created>
  <dc:creator>Voss, Erica</dc:creator>
  <dc:description/>
  <dc:language>en-US</dc:language>
  <cp:lastModifiedBy>Matcho, Amy [JRDUS]</cp:lastModifiedBy>
  <dcterms:modified xsi:type="dcterms:W3CDTF">2015-10-16T19:40:09Z</dcterms:modified>
  <cp:revision>351</cp:revision>
  <dc:subject/>
  <dc:title>PowerPoint Presentation</dc:title>
</cp:coreProperties>
</file>